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20C4-82B3-4C21-A030-43A827893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3781-CB41-42EE-AAC6-1487560E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57B9-4A3B-43DD-8510-7488AA0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947B-FDCA-4731-8AF7-2A5D230B7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79D-96CF-4FEA-B349-BFFCABEBE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786-ACD0-4CEE-B60A-9D4D226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4FE-2A4E-446C-8C96-FE9680A3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0D0-A5F6-4080-A9D3-9CC27D69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721-A193-4330-88FA-E820ECF2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5943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7A7-106C-4D49-A1C6-95DA60BA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960-B001-494B-9F3A-6F594553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7F58-2302-4A09-9126-453E4DA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AC7-C07C-44F9-97A7-6E519715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EBE-1AAD-4DB1-B936-0F4CD25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F94-852C-4D86-B51A-65EC6FE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F8A-EFF7-4D8D-A116-502F17A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C0C-4B04-466D-B23B-099317ECD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F0F6-08F5-4639-9AA7-5082CDBB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E8C0-7D98-4A34-A483-C3565FE9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5981-D71E-48C7-AFB8-0C4AD92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5943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FE84-88F5-493C-8754-78EB7A0F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6A8A-1B28-4414-9103-63813B5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246B-30E3-4296-B657-F3ACB287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74D9-08A3-477F-83DD-1B444B85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38240"/>
            <a:ext cx="9145440" cy="100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8bc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822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231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4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B43-345C-4C12-BC68-0EFFDF00A21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8bc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CE58-E73A-4A99-8B9B-BFE536E95CD3}" type="slidenum">
              <a:rPr b="0" lang="en-US" sz="1200" spc="-1" strike="noStrike">
                <a:solidFill>
                  <a:srgbClr val="69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8bc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7391160" y="640044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8bc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EEFB-3C0F-449A-85D4-FF11D9B76DA1}" type="slidenum">
              <a:rPr b="0" lang="en-US" sz="1200" spc="-1" strike="noStrike">
                <a:solidFill>
                  <a:srgbClr val="69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D4D-18FF-4207-B059-6CC6C18FECA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544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112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17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4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4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4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8600" y="15228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C32B-3F3A-46A6-A178-5A44398E6E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191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1600200"/>
            <a:ext cx="62485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ZION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nsiderazione più probabile è che manca la prevenzione e l’attenzione al trattamento di lesioni di 1°e 2°st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3581280"/>
            <a:ext cx="617220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ZION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nsiderazione più probabile è che l’assistenza fornita ai pazienti ad altissimo/alto rischio è att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148104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F077-D4B0-40DD-BE13-64095CF59E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11430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Riepilogo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523880"/>
          <a:ext cx="8457840" cy="4648320"/>
        </p:xfrm>
        <a:graphic>
          <a:graphicData uri="http://schemas.openxmlformats.org/drawingml/2006/table">
            <a:tbl>
              <a:tblPr/>
              <a:tblGrid>
                <a:gridCol w="1834560"/>
                <a:gridCol w="901800"/>
                <a:gridCol w="901800"/>
                <a:gridCol w="900000"/>
                <a:gridCol w="902160"/>
                <a:gridCol w="901800"/>
                <a:gridCol w="900000"/>
                <a:gridCol w="1215720"/>
              </a:tblGrid>
              <a:tr h="905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FA8A-0D37-4566-8891-D7FD210F3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04920" y="1447920"/>
          <a:ext cx="8381880" cy="4876560"/>
        </p:xfrm>
        <a:graphic>
          <a:graphicData uri="http://schemas.openxmlformats.org/drawingml/2006/table">
            <a:tbl>
              <a:tblPr/>
              <a:tblGrid>
                <a:gridCol w="1888920"/>
                <a:gridCol w="927360"/>
                <a:gridCol w="927000"/>
                <a:gridCol w="928440"/>
                <a:gridCol w="927360"/>
                <a:gridCol w="927000"/>
                <a:gridCol w="928800"/>
                <a:gridCol w="92700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C39B-A1F4-4B08-8A87-8E51DBA44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304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LDP  / Dati riepilogativi superf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91520" y="6286680"/>
            <a:ext cx="124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Garbag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295280"/>
          <a:ext cx="8610480" cy="4952880"/>
        </p:xfrm>
        <a:graphic>
          <a:graphicData uri="http://schemas.openxmlformats.org/drawingml/2006/table">
            <a:tbl>
              <a:tblPr/>
              <a:tblGrid>
                <a:gridCol w="1809720"/>
                <a:gridCol w="723960"/>
                <a:gridCol w="776160"/>
                <a:gridCol w="1036800"/>
                <a:gridCol w="709560"/>
                <a:gridCol w="711360"/>
                <a:gridCol w="711000"/>
                <a:gridCol w="711360"/>
                <a:gridCol w="709560"/>
                <a:gridCol w="711000"/>
              </a:tblGrid>
              <a:tr h="992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126504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7AEC-1FF6-447E-A065-5D8AF2134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02960" y="22860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utilizzata in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447920"/>
          <a:ext cx="8458200" cy="4889520"/>
        </p:xfrm>
        <a:graphic>
          <a:graphicData uri="http://schemas.openxmlformats.org/drawingml/2006/table">
            <a:tbl>
              <a:tblPr/>
              <a:tblGrid>
                <a:gridCol w="1882800"/>
                <a:gridCol w="822600"/>
                <a:gridCol w="822240"/>
                <a:gridCol w="822240"/>
                <a:gridCol w="820800"/>
                <a:gridCol w="820800"/>
                <a:gridCol w="822240"/>
                <a:gridCol w="987480"/>
                <a:gridCol w="657000"/>
              </a:tblGrid>
              <a:tr h="1372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4669-A9FC-4187-B987-903F56FB0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04920" y="1219320"/>
          <a:ext cx="8610120" cy="5257440"/>
        </p:xfrm>
        <a:graphic>
          <a:graphicData uri="http://schemas.openxmlformats.org/drawingml/2006/table">
            <a:tbl>
              <a:tblPr/>
              <a:tblGrid>
                <a:gridCol w="1916640"/>
                <a:gridCol w="837000"/>
                <a:gridCol w="836640"/>
                <a:gridCol w="654120"/>
                <a:gridCol w="985680"/>
                <a:gridCol w="986040"/>
                <a:gridCol w="720360"/>
                <a:gridCol w="922320"/>
                <a:gridCol w="7513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in schiuma 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1277-C6D5-4BE9-BFF7-0254C4939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0960" y="99072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in uso per paziente e per stadiazione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1447920"/>
          <a:ext cx="8534520" cy="4824360"/>
        </p:xfrm>
        <a:graphic>
          <a:graphicData uri="http://schemas.openxmlformats.org/drawingml/2006/table">
            <a:tbl>
              <a:tblPr/>
              <a:tblGrid>
                <a:gridCol w="1827360"/>
                <a:gridCol w="793800"/>
                <a:gridCol w="739800"/>
                <a:gridCol w="738000"/>
                <a:gridCol w="739800"/>
                <a:gridCol w="738360"/>
                <a:gridCol w="739800"/>
                <a:gridCol w="739800"/>
                <a:gridCol w="738000"/>
                <a:gridCol w="739800"/>
              </a:tblGrid>
              <a:tr h="946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58400" y="6286680"/>
            <a:ext cx="13096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9313-61E9-416B-A526-BCF536BDF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50400" y="1219320"/>
            <a:ext cx="68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utilizzata per paziente per proven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50960"/>
          <a:ext cx="8610120" cy="4520880"/>
        </p:xfrm>
        <a:graphic>
          <a:graphicData uri="http://schemas.openxmlformats.org/drawingml/2006/table">
            <a:tbl>
              <a:tblPr/>
              <a:tblGrid>
                <a:gridCol w="1940400"/>
                <a:gridCol w="952560"/>
                <a:gridCol w="952920"/>
                <a:gridCol w="952920"/>
                <a:gridCol w="1077840"/>
                <a:gridCol w="828000"/>
                <a:gridCol w="952920"/>
                <a:gridCol w="952560"/>
              </a:tblGrid>
              <a:tr h="765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3F84-6D86-4BC3-903B-59FA98B330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52120" y="304920"/>
            <a:ext cx="47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iano di trattamento per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838080"/>
          <a:ext cx="7772400" cy="381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772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4800600"/>
            <a:ext cx="86104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 momento della rilevazione, per « Piano adeguato » s’intendeva il riscontro nella documentazione sanitaria del pz del rischio (Norton) e la presenza di lesioni. Non si trattava cioè, di un vero e proprio piano di trat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EDAC-0BB7-4731-89DA-F5CADA8261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3400" y="38088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iano di trattamento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447920"/>
          <a:ext cx="8356320" cy="4521240"/>
        </p:xfrm>
        <a:graphic>
          <a:graphicData uri="http://schemas.openxmlformats.org/drawingml/2006/table">
            <a:tbl>
              <a:tblPr/>
              <a:tblGrid>
                <a:gridCol w="2017440"/>
                <a:gridCol w="1584360"/>
                <a:gridCol w="1584360"/>
                <a:gridCol w="1585800"/>
                <a:gridCol w="1584360"/>
              </a:tblGrid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gu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gu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s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16E7-BA21-4958-806F-115E236522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2400" y="3809880"/>
            <a:ext cx="227412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54480" y="3049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rattamento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295280"/>
          <a:ext cx="8686440" cy="4925880"/>
        </p:xfrm>
        <a:graphic>
          <a:graphicData uri="http://schemas.openxmlformats.org/drawingml/2006/table">
            <a:tbl>
              <a:tblPr/>
              <a:tblGrid>
                <a:gridCol w="2096640"/>
                <a:gridCol w="1648080"/>
                <a:gridCol w="1647000"/>
                <a:gridCol w="1648440"/>
                <a:gridCol w="1646280"/>
              </a:tblGrid>
              <a:tr h="329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i di cal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settici in argento assorb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settici no arg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m poliuret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 - fi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colloi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g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zioni non ader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zioni non aderenti all'arg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ume di poliuret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2057400" cy="19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1C91-4E9D-4C1D-ADC7-25B3A29FFF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76440" y="12193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Localizzazione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20600" y="1676520"/>
          <a:ext cx="7277400" cy="38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0600" y="1676520"/>
                    <a:ext cx="72774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2C7B-0173-4B58-990B-804EFCD18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4320" y="1295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93720" y="1676520"/>
          <a:ext cx="8450280" cy="384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1676520"/>
                    <a:ext cx="845028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438280" y="1600200"/>
            <a:ext cx="3130560" cy="293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921E-B66C-4317-9417-EA4FC599ED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62240" y="121932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Età dei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905120"/>
          <a:ext cx="7458120" cy="35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05120"/>
                    <a:ext cx="745812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134B-7E0A-432C-8396-465564595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90040" y="12193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Incontinenza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905120"/>
          <a:ext cx="8991720" cy="36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899172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04920" y="1143000"/>
            <a:ext cx="20588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4E87-4C9F-4BF9-95C1-BD94616BDA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Incontinenza per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0128-A92B-4D83-AE89-A7D3B81761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21480" y="121932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Quale alimentazione per pazienti con LD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66680" y="2057400"/>
          <a:ext cx="7896240" cy="30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8962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769D-9465-44C3-88A5-32075E29BA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9051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azienti con LDP ammessi d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553080" y="1066680"/>
            <a:ext cx="173520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4E32-7376-4CC0-827A-D0C78B167B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1905120"/>
          <a:ext cx="8229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eso paziente –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2205000" cy="21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80BB-A8C7-4E5A-B48D-238156A5C8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3049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eso paziente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219320"/>
          <a:ext cx="8763120" cy="5029200"/>
        </p:xfrm>
        <a:graphic>
          <a:graphicData uri="http://schemas.openxmlformats.org/drawingml/2006/table">
            <a:tbl>
              <a:tblPr/>
              <a:tblGrid>
                <a:gridCol w="2006640"/>
                <a:gridCol w="1123920"/>
                <a:gridCol w="1128600"/>
                <a:gridCol w="1123920"/>
                <a:gridCol w="1127160"/>
                <a:gridCol w="1125720"/>
                <a:gridCol w="1127160"/>
              </a:tblGrid>
              <a:tr h="286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-13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-2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-8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-1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Polispecial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Vasco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 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F2A4-1C82-40DC-8E0B-B9A9251077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66880" y="1447920"/>
            <a:ext cx="5445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CIDENZA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umero di persone che sviluppa una specifica patologia o condizione, come percentuale della popolazione a rischio, misurata in un certo periodo di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419720"/>
            <a:ext cx="72741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EVALENZ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umero di persone con una specifica patologia misurato in una data popolazione, in un determina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438280" cy="24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D57E-B031-4149-A3C5-E33700662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635040" y="1650960"/>
          <a:ext cx="8127720" cy="4597200"/>
        </p:xfrm>
        <a:graphic>
          <a:graphicData uri="http://schemas.openxmlformats.org/drawingml/2006/table">
            <a:tbl>
              <a:tblPr/>
              <a:tblGrid>
                <a:gridCol w="1861200"/>
                <a:gridCol w="1043280"/>
                <a:gridCol w="1045440"/>
                <a:gridCol w="1043640"/>
                <a:gridCol w="1045440"/>
                <a:gridCol w="1043640"/>
                <a:gridCol w="104508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-13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-2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-8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-1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5AF3-5262-4D92-9A1B-51661BBBEA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228600" y="1905120"/>
          <a:ext cx="8229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Mobilità paz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198756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4616-B9C5-4BD6-A9A7-F8D7E396B1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Cuscino da seduta per categoria di ris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905120"/>
          <a:ext cx="82296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5C34-B6E1-4F90-817D-0AB14E566F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95600" y="1219320"/>
            <a:ext cx="39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letto per tutti i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057400"/>
          <a:ext cx="86868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86868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68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54A8-5514-4E15-B8B6-4B99796EDB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80880" y="12193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letto per livello di mo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752480"/>
          <a:ext cx="8128080" cy="4216680"/>
        </p:xfrm>
        <a:graphic>
          <a:graphicData uri="http://schemas.openxmlformats.org/drawingml/2006/table">
            <a:tbl>
              <a:tblPr/>
              <a:tblGrid>
                <a:gridCol w="2059200"/>
                <a:gridCol w="2023920"/>
                <a:gridCol w="2022480"/>
                <a:gridCol w="2022480"/>
              </a:tblGrid>
              <a:tr h="701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ticol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t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ai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pen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s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7476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17D8-09CE-4503-B10E-90BE8BC0D4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" y="304920"/>
          <a:ext cx="8610480" cy="6057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1048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1038-FAAD-4B59-8AA7-096DB01BD0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1066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iepi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752480"/>
          <a:ext cx="8381520" cy="4547880"/>
        </p:xfrm>
        <a:graphic>
          <a:graphicData uri="http://schemas.openxmlformats.org/drawingml/2006/table">
            <a:tbl>
              <a:tblPr/>
              <a:tblGrid>
                <a:gridCol w="2124000"/>
                <a:gridCol w="2086560"/>
                <a:gridCol w="2084400"/>
                <a:gridCol w="2086560"/>
              </a:tblGrid>
              <a:tr h="1026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 oggetto dell’indag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tot di 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portatori d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  rispetto al num totale dei pazi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con LDP, escl. 1° st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, escluso 1° st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0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con LDP sviluppate in ospedale su 59 paz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 sviluppate in osped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1322640" cy="18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B043-B6D4-4215-80BC-15D68D7D6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Quali consid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381880" cy="4548240"/>
        </p:xfrm>
        <a:graphic>
          <a:graphicData uri="http://schemas.openxmlformats.org/drawingml/2006/table">
            <a:tbl>
              <a:tblPr/>
              <a:tblGrid>
                <a:gridCol w="762120"/>
                <a:gridCol w="7619760"/>
              </a:tblGrid>
              <a:tr h="1027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ni paziente ha mediamente 2 les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sono 17 pazienti portatori di LDP di 1 stadi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sono 42 pazienti portatori di LDP di 2-3-4 st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pazienti sono stati ammessi con LDP in 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pazienti hanno sviluppato LDP in Osped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 10%, il 6% dei pazienti sviluppano LDP in Osp, il 4% provengono dall’esterno (6: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2008080" cy="15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0D35-06D5-41C3-83AF-DAFF05423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219320" y="685800"/>
          <a:ext cx="736272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73627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rovenienza LDP per st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971800"/>
          <a:ext cx="8305560" cy="2681280"/>
        </p:xfrm>
        <a:graphic>
          <a:graphicData uri="http://schemas.openxmlformats.org/drawingml/2006/table">
            <a:tbl>
              <a:tblPr/>
              <a:tblGrid>
                <a:gridCol w="2104920"/>
                <a:gridCol w="2066760"/>
                <a:gridCol w="2067120"/>
                <a:gridCol w="2066760"/>
              </a:tblGrid>
              <a:tr h="444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04920" y="5865840"/>
            <a:ext cx="8686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</a:t>
            </a: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% maggiore si colloca nel 1-2 stadio (27 pz) (4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8288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362320" y="13712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62120" y="914400"/>
            <a:ext cx="1109520" cy="19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4553-3BFB-4581-874B-DCDD969DB1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191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0440" y="22860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e di rischio (tutti i paz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91520" y="6286680"/>
            <a:ext cx="124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Garbag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371600"/>
          <a:ext cx="8458200" cy="3027240"/>
        </p:xfrm>
        <a:graphic>
          <a:graphicData uri="http://schemas.openxmlformats.org/drawingml/2006/table">
            <a:tbl>
              <a:tblPr/>
              <a:tblGrid>
                <a:gridCol w="2143080"/>
                <a:gridCol w="1050840"/>
                <a:gridCol w="1052640"/>
                <a:gridCol w="1054080"/>
                <a:gridCol w="1052280"/>
                <a:gridCol w="1052640"/>
                <a:gridCol w="1052640"/>
              </a:tblGrid>
              <a:tr h="569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chio sec. Nor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. St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ith 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 Excl Grad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 senza l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 altissim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alt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6 medi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6 bass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28600" y="4724280"/>
            <a:ext cx="693432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</a:t>
            </a: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25 pazienti di altissimo/alto rischio hanno sviluppato L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 Osp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7 pazienti basso/medio rischio hanno sviluppato LDP in     Osp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2346480" cy="133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A0D7-9D5E-463D-A4E6-7878C6DE4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E DI RISCHIO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(tutti i pz.)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219320"/>
          <a:ext cx="8382240" cy="3448080"/>
        </p:xfrm>
        <a:graphic>
          <a:graphicData uri="http://schemas.openxmlformats.org/drawingml/2006/table">
            <a:tbl>
              <a:tblPr/>
              <a:tblGrid>
                <a:gridCol w="1309680"/>
                <a:gridCol w="785880"/>
                <a:gridCol w="785880"/>
                <a:gridCol w="785880"/>
                <a:gridCol w="785880"/>
                <a:gridCol w="785520"/>
                <a:gridCol w="785880"/>
                <a:gridCol w="785880"/>
                <a:gridCol w="785880"/>
                <a:gridCol w="785880"/>
              </a:tblGrid>
              <a:tr h="9003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chio sec. Nor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. St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0 altissim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2 alt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-16 medi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6 bass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415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597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33520" y="4952880"/>
            <a:ext cx="8153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7 pazienti hanno sviluppato LDP di 1 e 2 stadio in Ospedale (4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   pazienti hanno sviuluppato LDP di 3 e 4 stadio in Ospedale (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D6AC-3E1D-4743-BE48-E1D67BC55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26640" y="114300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empo medio di degenza per paziente, per stadio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1650960"/>
          <a:ext cx="8458200" cy="4521240"/>
        </p:xfrm>
        <a:graphic>
          <a:graphicData uri="http://schemas.openxmlformats.org/drawingml/2006/table">
            <a:tbl>
              <a:tblPr/>
              <a:tblGrid>
                <a:gridCol w="1322640"/>
                <a:gridCol w="792000"/>
                <a:gridCol w="793800"/>
                <a:gridCol w="792000"/>
                <a:gridCol w="793800"/>
                <a:gridCol w="792360"/>
                <a:gridCol w="793800"/>
                <a:gridCol w="792000"/>
                <a:gridCol w="793800"/>
                <a:gridCol w="792000"/>
              </a:tblGrid>
              <a:tr h="6811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32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32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2864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149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3505320"/>
            <a:ext cx="4572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 pazienti hanno sviluppato LDP di 1 e 2 stadio in Ospedale (22%) nei primi 10 giorni di ricov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6C07-CE2D-403D-83B7-45E7979B16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7:10:47Z</dcterms:created>
  <dc:creator>Creative Powers</dc:creator>
  <dc:description/>
  <dc:language>en-US</dc:language>
  <cp:lastModifiedBy>formazione</cp:lastModifiedBy>
  <dcterms:modified xsi:type="dcterms:W3CDTF">2010-04-16T11:25:27Z</dcterms:modified>
  <cp:revision>433</cp:revision>
  <dc:subject/>
  <dc:title>Headline: Arial Bold 32pt. center justified</dc:title>
</cp:coreProperties>
</file>